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6B12-8D3F-4686-B813-791F69F6B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es are based on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ass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usiness Cl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work offers cheape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l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tour: select eight other NBA teams: Might be cost 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…China Tour: Bejing, Shanghai, Hong Ko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54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eign play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B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pening-day rosters, or 12.2% of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B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ccess of Dirk Nowitzki, Pau Gasol and Peja Stojakovic has convince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B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eams that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eign play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an do more than just shoot and pass, they can attract international endors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x of foreign players can restore NBA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influx of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reign play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B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re may never have been more talent in the league than there is now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6E2-A47F-4EE7-BC1D-75FF5151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79E-75C9-4F37-8F6B-D1164C32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311-74E4-4C8B-BC84-03C10B69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0BD-5939-474D-9FBC-770B9252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8AC-ED0B-4BB0-A38E-4B4A28F9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E54-08F5-440F-80D3-191AA29F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10B-9041-47CC-99C5-B6490CF8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14D-F8FC-454F-B42F-F80FCCE3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036-267C-44F1-81E4-DC6FB456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EA6-EF56-459C-AF1B-DAFE8E7E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0E2-8F8D-460C-B52F-3D7C7D98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D79-067C-4EC3-8374-7DB8FB5B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3CD6-87CC-41BF-9427-6E0A3FF8E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24"/>
          <p:cNvSpPr/>
          <p:nvPr/>
        </p:nvSpPr>
        <p:spPr>
          <a:xfrm rot="10800000">
            <a:off x="0" y="6553080"/>
            <a:ext cx="9144000" cy="15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nba_logo.gif"/>
          <p:cNvPicPr/>
          <p:nvPr/>
        </p:nvPicPr>
        <p:blipFill>
          <a:blip r:embed="rId2"/>
          <a:stretch/>
        </p:blipFill>
        <p:spPr>
          <a:xfrm>
            <a:off x="0" y="146160"/>
            <a:ext cx="838080" cy="715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NYU%20Stern%20Logo"/>
          <p:cNvPicPr/>
          <p:nvPr/>
        </p:nvPicPr>
        <p:blipFill>
          <a:blip r:embed="rId3"/>
          <a:stretch/>
        </p:blipFill>
        <p:spPr>
          <a:xfrm>
            <a:off x="8129520" y="147600"/>
            <a:ext cx="812880" cy="71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google.com/imgres?imgurl=http://www.logoshak.com/~asgsport/images/Golden_State_Warriors.gif&amp;imgrefurl=http://www.logoshak.com/&amp;h=696&amp;w=716&amp;sz=132&amp;hl=en&amp;start=3&amp;tbnid=srIxWRmodbrs-M:&amp;tbnh=136&amp;tbnw=140&amp;prev=/images%3Fq%3Dgolden%2Bstate%2Bwarriors%26gbv%3D2%26svnum%3D10%26hl%3Den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hyperlink" Target="http://images.google.com/imgres?imgurl=http://images.1strowseats.com/300x180/san_antonio_spurs300.jpg&amp;imgrefurl=http://www.1strowseats.com/NBA_tickets/san_antonio_spurs_tickets/san_antonio_spurs_tickets.asp&amp;h=180&amp;w=300&amp;sz=15&amp;hl=en&amp;start=1&amp;tbnid=N_lRjhmmj_LzIM:&amp;tbnh=70&amp;tbnw=116&amp;prev=/images%3Fq%3Dsan%2Bantonio%2Bspurs%26gbv%3D2%26svnum%3D10%26hl%3Den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3.png"/><Relationship Id="rId8" Type="http://schemas.openxmlformats.org/officeDocument/2006/relationships/hyperlink" Target="http://images.google.com/imgres?imgurl=http://www.logoshak.com/~asgsport/images3/Detroit_Pistons.gif&amp;imgrefurl=http://www.logoshak.com/&amp;h=970&amp;w=970&amp;sz=23&amp;hl=en&amp;start=1&amp;tbnid=4gjOmpPCCvO2oM:&amp;tbnh=149&amp;tbnw=149&amp;prev=/images%3Fq%3Ddetroit%2Bpistons%26gbv%3D2%26svnum%3D10%26hl%3Den" TargetMode="External"/><Relationship Id="rId9" Type="http://schemas.openxmlformats.org/officeDocument/2006/relationships/image" Target="../media/image20.png"/><Relationship Id="rId10" Type="http://schemas.openxmlformats.org/officeDocument/2006/relationships/hyperlink" Target="http://images.google.com/imgres?imgurl=http://www.royalhotelsuites.com/Dallas%2520Mavericks.jpg&amp;imgrefurl=http://www.royalhotelsuites.com/Attractions.htm&amp;h=400&amp;w=382&amp;sz=40&amp;hl=en&amp;start=1&amp;tbnid=vSSRGggx5SHCLM:&amp;tbnh=124&amp;tbnw=118&amp;prev=/images%3Fq%3Ddallas%2Bmavericks%26gbv%3D2%26svnum%3D10%26hl%3Den" TargetMode="External"/><Relationship Id="rId11" Type="http://schemas.openxmlformats.org/officeDocument/2006/relationships/image" Target="../media/image18.png"/><Relationship Id="rId12" Type="http://schemas.openxmlformats.org/officeDocument/2006/relationships/hyperlink" Target="http://images.google.com/imgres?imgurl=http://www.ironmouth.com/content/binary/chicago%2520bulls.jpg&amp;imgrefurl=http://ironmouth.com/default,month,2005-01.aspx&amp;h=400&amp;w=385&amp;sz=30&amp;hl=en&amp;start=3&amp;tbnid=SRNBHEWbKRtnjM:&amp;tbnh=124&amp;tbnw=119&amp;prev=/images%3Fq%3Dchicago%2Bbulls%26gbv%3D2%26svnum%3D10%26hl%3Den" TargetMode="External"/><Relationship Id="rId13" Type="http://schemas.openxmlformats.org/officeDocument/2006/relationships/image" Target="../media/image14.png"/><Relationship Id="rId14" Type="http://schemas.openxmlformats.org/officeDocument/2006/relationships/hyperlink" Target="http://images.google.com/imgres?imgurl=http://miami-heat-news.newslib.com/img/logo/945.jpg&amp;imgrefurl=http://miami-heat-news.newslib.com/&amp;h=253&amp;w=180&amp;sz=10&amp;hl=en&amp;start=16&amp;tbnid=tpOopq40khMhEM:&amp;tbnh=111&amp;tbnw=79&amp;prev=/images%3Fq%3Dmiami%2Bheat%26gbv%3D2%26svnum%3D10%26hl%3Den" TargetMode="External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images.google.com/imgres?imgurl=http://www.ironmouth.com/content/binary/chicago%2520bulls.jpg&amp;imgrefurl=http://ironmouth.com/default,month,2005-01.aspx&amp;h=400&amp;w=385&amp;sz=30&amp;hl=en&amp;start=3&amp;tbnid=SRNBHEWbKRtnjM:&amp;tbnh=124&amp;tbnw=119&amp;prev=/images%3Fq%3Dchicago%2Bbulls%26gbv%3D2%26svnum%3D10%26hl%3Den" TargetMode="External"/><Relationship Id="rId4" Type="http://schemas.openxmlformats.org/officeDocument/2006/relationships/image" Target="../media/image14.png"/><Relationship Id="rId5" Type="http://schemas.openxmlformats.org/officeDocument/2006/relationships/hyperlink" Target="http://images.google.com/imgres?imgurl=http://www.onlinesports.com/images/lakers.gif&amp;imgrefurl=http://javidel.org/category/sports/basketball/lakers/&amp;h=177&amp;w=216&amp;sz=15&amp;hl=en&amp;start=4&amp;tbnid=dlgfirm2EJXD8M:&amp;tbnh=88&amp;tbnw=107&amp;prev=/images%3Fq%3DLA%2Blakers%26gbv%3D2%26svnum%3D10%26hl%3Den" TargetMode="External"/><Relationship Id="rId6" Type="http://schemas.openxmlformats.org/officeDocument/2006/relationships/image" Target="../media/image15.png"/><Relationship Id="rId7" Type="http://schemas.openxmlformats.org/officeDocument/2006/relationships/hyperlink" Target="http://images.google.com/imgres?imgurl=http://miami-heat-news.newslib.com/img/logo/945.jpg&amp;imgrefurl=http://miami-heat-news.newslib.com/&amp;h=253&amp;w=180&amp;sz=10&amp;hl=en&amp;start=16&amp;tbnid=tpOopq40khMhEM:&amp;tbnh=111&amp;tbnw=79&amp;prev=/images%3Fq%3Dmiami%2Bheat%26gbv%3D2%26svnum%3D10%26hl%3Den" TargetMode="External"/><Relationship Id="rId8" Type="http://schemas.openxmlformats.org/officeDocument/2006/relationships/image" Target="../media/image16.png"/><Relationship Id="rId9" Type="http://schemas.openxmlformats.org/officeDocument/2006/relationships/hyperlink" Target="http://images.google.com/imgres?imgurl=http://www.logoshak.com/~asgsport/images/Golden_State_Warriors.gif&amp;imgrefurl=http://www.logoshak.com/&amp;h=696&amp;w=716&amp;sz=132&amp;hl=en&amp;start=3&amp;tbnid=srIxWRmodbrs-M:&amp;tbnh=136&amp;tbnw=140&amp;prev=/images%3Fq%3Dgolden%2Bstate%2Bwarriors%26gbv%3D2%26svnum%3D10%26hl%3Den" TargetMode="External"/><Relationship Id="rId10" Type="http://schemas.openxmlformats.org/officeDocument/2006/relationships/image" Target="../media/image17.png"/><Relationship Id="rId11" Type="http://schemas.openxmlformats.org/officeDocument/2006/relationships/hyperlink" Target="http://images.google.com/imgres?imgurl=http://www.royalhotelsuites.com/Dallas%2520Mavericks.jpg&amp;imgrefurl=http://www.royalhotelsuites.com/Attractions.htm&amp;h=400&amp;w=382&amp;sz=40&amp;hl=en&amp;start=1&amp;tbnid=vSSRGggx5SHCLM:&amp;tbnh=124&amp;tbnw=118&amp;prev=/images%3Fq%3Ddallas%2Bmavericks%26gbv%3D2%26svnum%3D10%26hl%3Den" TargetMode="External"/><Relationship Id="rId12" Type="http://schemas.openxmlformats.org/officeDocument/2006/relationships/image" Target="../media/image18.png"/><Relationship Id="rId13" Type="http://schemas.openxmlformats.org/officeDocument/2006/relationships/hyperlink" Target="http://images.google.com/imgres?imgurl=http://images.1strowseats.com/300x180/san_antonio_spurs300.jpg&amp;imgrefurl=http://www.1strowseats.com/NBA_tickets/san_antonio_spurs_tickets/san_antonio_spurs_tickets.asp&amp;h=180&amp;w=300&amp;sz=15&amp;hl=en&amp;start=1&amp;tbnid=N_lRjhmmj_LzIM:&amp;tbnh=70&amp;tbnw=116&amp;prev=/images%3Fq%3Dsan%2Bantonio%2Bspurs%26gbv%3D2%26svnum%3D10%26hl%3Den" TargetMode="External"/><Relationship Id="rId14" Type="http://schemas.openxmlformats.org/officeDocument/2006/relationships/image" Target="../media/image19.png"/><Relationship Id="rId15" Type="http://schemas.openxmlformats.org/officeDocument/2006/relationships/hyperlink" Target="http://images.google.com/imgres?imgurl=http://www.logoshak.com/~asgsport/images3/Detroit_Pistons.gif&amp;imgrefurl=http://www.logoshak.com/&amp;h=970&amp;w=970&amp;sz=23&amp;hl=en&amp;start=1&amp;tbnid=4gjOmpPCCvO2oM:&amp;tbnh=149&amp;tbnw=149&amp;prev=/images%3Fq%3Ddetroit%2Bpistons%26gbv%3D2%26svnum%3D10%26hl%3Den" TargetMode="External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google.com/imgres?imgurl=http://www.logoshak.com/~asgsport/images/Golden_State_Warriors.gif&amp;imgrefurl=http://www.logoshak.com/&amp;h=696&amp;w=716&amp;sz=132&amp;hl=en&amp;start=3&amp;tbnid=srIxWRmodbrs-M:&amp;tbnh=136&amp;tbnw=140&amp;prev=/images%3Fq%3Dgolden%2Bstate%2Bwarriors%26gbv%3D2%26svnum%3D10%26hl%3Den" TargetMode="External"/><Relationship Id="rId3" Type="http://schemas.openxmlformats.org/officeDocument/2006/relationships/image" Target="../media/image17.png"/><Relationship Id="rId4" Type="http://schemas.openxmlformats.org/officeDocument/2006/relationships/hyperlink" Target="http://images.google.com/imgres?imgurl=http://www.onlinesports.com/images/lakers.gif&amp;imgrefurl=http://javidel.org/category/sports/basketball/lakers/&amp;h=177&amp;w=216&amp;sz=15&amp;hl=en&amp;start=4&amp;tbnid=dlgfirm2EJXD8M:&amp;tbnh=88&amp;tbnw=107&amp;prev=/images%3Fq%3DLA%2Blakers%26gbv%3D2%26svnum%3D10%26hl%3Den" TargetMode="External"/><Relationship Id="rId5" Type="http://schemas.openxmlformats.org/officeDocument/2006/relationships/image" Target="../media/image15.png"/><Relationship Id="rId6" Type="http://schemas.openxmlformats.org/officeDocument/2006/relationships/hyperlink" Target="http://images.google.com/imgres?imgurl=http://images.1strowseats.com/300x180/san_antonio_spurs300.jpg&amp;imgrefurl=http://www.1strowseats.com/NBA_tickets/san_antonio_spurs_tickets/san_antonio_spurs_tickets.asp&amp;h=180&amp;w=300&amp;sz=15&amp;hl=en&amp;start=1&amp;tbnid=N_lRjhmmj_LzIM:&amp;tbnh=70&amp;tbnw=116&amp;prev=/images%3Fq%3Dsan%2Bantonio%2Bspurs%26gbv%3D2%26svnum%3D10%26hl%3Den" TargetMode="External"/><Relationship Id="rId7" Type="http://schemas.openxmlformats.org/officeDocument/2006/relationships/image" Target="../media/image19.png"/><Relationship Id="rId8" Type="http://schemas.openxmlformats.org/officeDocument/2006/relationships/hyperlink" Target="http://images.google.com/imgres?imgurl=http://www.logoshak.com/~asgsport/images3/Detroit_Pistons.gif&amp;imgrefurl=http://www.logoshak.com/&amp;h=970&amp;w=970&amp;sz=23&amp;hl=en&amp;start=1&amp;tbnid=4gjOmpPCCvO2oM:&amp;tbnh=149&amp;tbnw=149&amp;prev=/images%3Fq%3Ddetroit%2Bpistons%26gbv%3D2%26svnum%3D10%26hl%3Den" TargetMode="External"/><Relationship Id="rId9" Type="http://schemas.openxmlformats.org/officeDocument/2006/relationships/image" Target="../media/image20.png"/><Relationship Id="rId10" Type="http://schemas.openxmlformats.org/officeDocument/2006/relationships/hyperlink" Target="http://images.google.com/imgres?imgurl=http://www.ironmouth.com/content/binary/chicago%2520bulls.jpg&amp;imgrefurl=http://ironmouth.com/default,month,2005-01.aspx&amp;h=400&amp;w=385&amp;sz=30&amp;hl=en&amp;start=3&amp;tbnid=SRNBHEWbKRtnjM:&amp;tbnh=124&amp;tbnw=119&amp;prev=/images%3Fq%3Dchicago%2Bbulls%26gbv%3D2%26svnum%3D10%26hl%3Den" TargetMode="External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hyperlink" Target="http://images.google.com/imgres?imgurl=http://www.royalhotelsuites.com/Dallas%2520Mavericks.jpg&amp;imgrefurl=http://www.royalhotelsuites.com/Attractions.htm&amp;h=400&amp;w=382&amp;sz=40&amp;hl=en&amp;start=1&amp;tbnid=vSSRGggx5SHCLM:&amp;tbnh=124&amp;tbnw=118&amp;prev=/images%3Fq%3Ddallas%2Bmavericks%26gbv%3D2%26svnum%3D10%26hl%3Den" TargetMode="External"/><Relationship Id="rId14" Type="http://schemas.openxmlformats.org/officeDocument/2006/relationships/image" Target="../media/image18.png"/><Relationship Id="rId15" Type="http://schemas.openxmlformats.org/officeDocument/2006/relationships/hyperlink" Target="http://images.google.com/imgres?imgurl=http://miami-heat-news.newslib.com/img/logo/945.jpg&amp;imgrefurl=http://miami-heat-news.newslib.com/&amp;h=253&amp;w=180&amp;sz=10&amp;hl=en&amp;start=16&amp;tbnid=tpOopq40khMhEM:&amp;tbnh=111&amp;tbnw=79&amp;prev=/images%3Fq%3Dmiami%2Bheat%26gbv%3D2%26svnum%3D10%26hl%3Den" TargetMode="External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ounded Rectangle 9"/>
          <p:cNvSpPr/>
          <p:nvPr/>
        </p:nvSpPr>
        <p:spPr>
          <a:xfrm rot="10800000">
            <a:off x="0" y="1669320"/>
            <a:ext cx="91440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JasonHarrisRich400.jpg"/>
          <p:cNvPicPr/>
          <p:nvPr/>
        </p:nvPicPr>
        <p:blipFill>
          <a:blip r:embed="rId1"/>
          <a:stretch/>
        </p:blipFill>
        <p:spPr>
          <a:xfrm>
            <a:off x="3517920" y="1908000"/>
            <a:ext cx="2266920" cy="595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renaside600.jpg"/>
          <p:cNvPicPr/>
          <p:nvPr/>
        </p:nvPicPr>
        <p:blipFill>
          <a:blip r:embed="rId2"/>
          <a:stretch/>
        </p:blipFill>
        <p:spPr>
          <a:xfrm>
            <a:off x="244440" y="1895400"/>
            <a:ext cx="3237120" cy="4810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716200" y="2513160"/>
            <a:ext cx="6248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Steve Armbr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harles Pat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Michael C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Sekou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Decision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Professor David J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NYU Leonard N. Stern School of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April 30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539720" y="571680"/>
            <a:ext cx="60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EUROPEAN TOUR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204840" y="50760"/>
            <a:ext cx="42048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nba_logo.gif"/>
          <p:cNvPicPr/>
          <p:nvPr/>
        </p:nvPicPr>
        <p:blipFill>
          <a:blip r:embed="rId3"/>
          <a:srcRect l="22308" t="0" r="24392" b="0"/>
          <a:stretch/>
        </p:blipFill>
        <p:spPr>
          <a:xfrm>
            <a:off x="185760" y="220680"/>
            <a:ext cx="876240" cy="1405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3"/>
          <p:cNvSpPr/>
          <p:nvPr/>
        </p:nvSpPr>
        <p:spPr>
          <a:xfrm>
            <a:off x="7977240" y="38160"/>
            <a:ext cx="100944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NYU%20Stern%20Logo"/>
          <p:cNvPicPr/>
          <p:nvPr/>
        </p:nvPicPr>
        <p:blipFill>
          <a:blip r:embed="rId4"/>
          <a:stretch/>
        </p:blipFill>
        <p:spPr>
          <a:xfrm>
            <a:off x="7769160" y="395280"/>
            <a:ext cx="12067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Political map of Europe"/>
          <p:cNvPicPr/>
          <p:nvPr/>
        </p:nvPicPr>
        <p:blipFill>
          <a:blip r:embed="rId1"/>
          <a:srcRect l="12420" t="54184" r="32003" b="16854"/>
          <a:stretch/>
        </p:blipFill>
        <p:spPr>
          <a:xfrm>
            <a:off x="896760" y="1792440"/>
            <a:ext cx="7099560" cy="458460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2"/>
          <p:cNvSpPr/>
          <p:nvPr/>
        </p:nvSpPr>
        <p:spPr>
          <a:xfrm>
            <a:off x="965160" y="7632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4"/>
          <p:cNvGrpSpPr/>
          <p:nvPr/>
        </p:nvGrpSpPr>
        <p:grpSpPr>
          <a:xfrm>
            <a:off x="546120" y="5189400"/>
            <a:ext cx="1874880" cy="838440"/>
            <a:chOff x="546120" y="5189400"/>
            <a:chExt cx="1874880" cy="838440"/>
          </a:xfrm>
        </p:grpSpPr>
        <p:pic>
          <p:nvPicPr>
            <p:cNvPr id="136" name="Picture 6" descr="Golden_State_Warriors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46120" y="5194440"/>
              <a:ext cx="84924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7" descr="lakers"/>
            <p:cNvPicPr/>
            <p:nvPr/>
          </p:nvPicPr>
          <p:blipFill>
            <a:blip r:embed="rId4"/>
            <a:stretch/>
          </p:blipFill>
          <p:spPr>
            <a:xfrm>
              <a:off x="1401840" y="5189400"/>
              <a:ext cx="101916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18"/>
          <p:cNvGrpSpPr/>
          <p:nvPr/>
        </p:nvGrpSpPr>
        <p:grpSpPr>
          <a:xfrm>
            <a:off x="2986200" y="1968480"/>
            <a:ext cx="1962000" cy="830160"/>
            <a:chOff x="2986200" y="1968480"/>
            <a:chExt cx="1962000" cy="830160"/>
          </a:xfrm>
        </p:grpSpPr>
        <p:pic>
          <p:nvPicPr>
            <p:cNvPr id="139" name="Picture 8" descr="san_antonio_spurs300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2986200" y="2079360"/>
              <a:ext cx="100476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1" descr="knicks_accountmanager_hdr"/>
            <p:cNvPicPr/>
            <p:nvPr/>
          </p:nvPicPr>
          <p:blipFill>
            <a:blip r:embed="rId7"/>
            <a:srcRect l="18238" t="24220" r="18120" b="0"/>
            <a:stretch/>
          </p:blipFill>
          <p:spPr>
            <a:xfrm>
              <a:off x="3978360" y="1968480"/>
              <a:ext cx="969840" cy="83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16"/>
          <p:cNvGrpSpPr/>
          <p:nvPr/>
        </p:nvGrpSpPr>
        <p:grpSpPr>
          <a:xfrm>
            <a:off x="5978520" y="4886280"/>
            <a:ext cx="1636200" cy="817560"/>
            <a:chOff x="5978520" y="4886280"/>
            <a:chExt cx="1636200" cy="817560"/>
          </a:xfrm>
        </p:grpSpPr>
        <p:pic>
          <p:nvPicPr>
            <p:cNvPr id="142" name="Picture 9" descr="Detroit_Pistons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797520" y="4886280"/>
              <a:ext cx="8172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2" descr="Dallas%2520Mavericks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5978520" y="4896000"/>
              <a:ext cx="757080" cy="79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17"/>
          <p:cNvGrpSpPr/>
          <p:nvPr/>
        </p:nvGrpSpPr>
        <p:grpSpPr>
          <a:xfrm>
            <a:off x="6361200" y="2206800"/>
            <a:ext cx="1550880" cy="1056960"/>
            <a:chOff x="6361200" y="2206800"/>
            <a:chExt cx="1550880" cy="1056960"/>
          </a:xfrm>
        </p:grpSpPr>
        <p:pic>
          <p:nvPicPr>
            <p:cNvPr id="145" name="Picture 10" descr="chicago%2520bulls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6361200" y="2349360"/>
              <a:ext cx="73980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3" descr="945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7159680" y="2206800"/>
              <a:ext cx="752400" cy="105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85 0.00602 L -0.29375 -0.45 E">
                                      <p:cBhvr>
                                        <p:cTn id="11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8.51852E-006 L 0.31962 0.41945 E">
                                      <p:cBhvr>
                                        <p:cTn id="11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5434E-006 L 0.62899 -0.42659 E">
                                      <p:cBhvr>
                                        <p:cTn id="11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00695 L -0.57917 0.40694 E">
                                      <p:cBhvr>
                                        <p:cTn id="11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375 -0.44994 L 0.07396 -0.37318 E">
                                      <p:cBhvr>
                                        <p:cTn id="12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962 0.41942 L -0.26475 0.47468 E">
                                      <p:cBhvr>
                                        <p:cTn id="12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986 -0.4259 L 0.27795 -0.47122 E">
                                      <p:cBhvr>
                                        <p:cTn id="12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916 0.40694 L -0.03107 0.37434 E">
                                      <p:cBhvr>
                                        <p:cTn id="12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92 -0.38081 L -0.58281 0.05272 E">
                                      <p:cBhvr>
                                        <p:cTn id="13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263 0.45827 L 0.37448 0.04486 E">
                                      <p:cBhvr>
                                        <p:cTn id="13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733 -0.49572 L 0.60174 -0.0185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91 0.36809 L -0.33611 -0.06774 E">
                                      <p:cBhvr>
                                        <p:cTn id="13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2"/>
          <p:cNvSpPr/>
          <p:nvPr/>
        </p:nvSpPr>
        <p:spPr>
          <a:xfrm>
            <a:off x="952560" y="6336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54" descr=""/>
          <p:cNvPicPr/>
          <p:nvPr/>
        </p:nvPicPr>
        <p:blipFill>
          <a:blip r:embed="rId1"/>
          <a:stretch/>
        </p:blipFill>
        <p:spPr>
          <a:xfrm>
            <a:off x="200160" y="2379600"/>
            <a:ext cx="8745480" cy="18716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55"/>
          <p:cNvSpPr/>
          <p:nvPr/>
        </p:nvSpPr>
        <p:spPr>
          <a:xfrm>
            <a:off x="2730600" y="4848120"/>
            <a:ext cx="34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 Cost = $723,8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8" descr="bbal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bball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53080" y="990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2"/>
          <p:cNvSpPr/>
          <p:nvPr/>
        </p:nvSpPr>
        <p:spPr>
          <a:xfrm>
            <a:off x="-54000" y="237960"/>
            <a:ext cx="905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clusions &amp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"/>
          <p:cNvSpPr/>
          <p:nvPr/>
        </p:nvSpPr>
        <p:spPr>
          <a:xfrm>
            <a:off x="4773600" y="2457360"/>
            <a:ext cx="4260960" cy="3943440"/>
          </a:xfrm>
          <a:prstGeom prst="roundRect">
            <a:avLst>
              <a:gd name="adj" fmla="val 7940"/>
            </a:avLst>
          </a:prstGeom>
          <a:noFill/>
          <a:ln w="9360">
            <a:solidFill>
              <a:srgbClr val="ff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"/>
          <p:cNvSpPr/>
          <p:nvPr/>
        </p:nvSpPr>
        <p:spPr>
          <a:xfrm rot="10800000">
            <a:off x="228240" y="2441520"/>
            <a:ext cx="4259160" cy="3959280"/>
          </a:xfrm>
          <a:prstGeom prst="roundRect">
            <a:avLst>
              <a:gd name="adj" fmla="val 7569"/>
            </a:avLst>
          </a:prstGeom>
          <a:noFill/>
          <a:ln w="9360">
            <a:solidFill>
              <a:srgbClr val="4f81bd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87280" y="3054600"/>
            <a:ext cx="41608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-Atlantic flight costs were the highest, as exp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t may make sense to increase the duration of the t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Rounded Rectangle 10" descr=""/>
          <p:cNvPicPr/>
          <p:nvPr/>
        </p:nvPicPr>
        <p:blipFill>
          <a:blip r:embed="rId3"/>
          <a:stretch/>
        </p:blipFill>
        <p:spPr>
          <a:xfrm>
            <a:off x="480960" y="1542960"/>
            <a:ext cx="3664080" cy="1341360"/>
          </a:xfrm>
          <a:prstGeom prst="rect">
            <a:avLst/>
          </a:prstGeom>
          <a:ln w="0">
            <a:noFill/>
          </a:ln>
        </p:spPr>
      </p:pic>
      <p:pic>
        <p:nvPicPr>
          <p:cNvPr id="159" name="Rounded Rectangle 11" descr=""/>
          <p:cNvPicPr/>
          <p:nvPr/>
        </p:nvPicPr>
        <p:blipFill>
          <a:blip r:embed="rId4"/>
          <a:stretch/>
        </p:blipFill>
        <p:spPr>
          <a:xfrm>
            <a:off x="4913280" y="1542960"/>
            <a:ext cx="3846600" cy="1341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782960" y="2781360"/>
            <a:ext cx="415944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ider advance ticket purchases, group rates, discounted air f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tate other NBA teams through European t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ider other European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pand to other world regions. Attract best players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990720" y="2590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8" descr="bbal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bball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19960" y="3584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3" descr=""/>
          <p:cNvPicPr/>
          <p:nvPr/>
        </p:nvPicPr>
        <p:blipFill>
          <a:blip r:embed="rId3"/>
          <a:stretch/>
        </p:blipFill>
        <p:spPr>
          <a:xfrm>
            <a:off x="19080" y="303516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4" descr=""/>
          <p:cNvPicPr/>
          <p:nvPr/>
        </p:nvPicPr>
        <p:blipFill>
          <a:blip r:embed="rId4"/>
          <a:stretch/>
        </p:blipFill>
        <p:spPr>
          <a:xfrm>
            <a:off x="3333600" y="3029040"/>
            <a:ext cx="1860840" cy="22986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5" descr=""/>
          <p:cNvPicPr/>
          <p:nvPr/>
        </p:nvPicPr>
        <p:blipFill>
          <a:blip r:embed="rId5"/>
          <a:stretch/>
        </p:blipFill>
        <p:spPr>
          <a:xfrm>
            <a:off x="5181480" y="3029040"/>
            <a:ext cx="1657440" cy="229860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6" descr=""/>
          <p:cNvPicPr/>
          <p:nvPr/>
        </p:nvPicPr>
        <p:blipFill>
          <a:blip r:embed="rId6"/>
          <a:stretch/>
        </p:blipFill>
        <p:spPr>
          <a:xfrm>
            <a:off x="6808680" y="3029040"/>
            <a:ext cx="2268720" cy="229860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7" descr=""/>
          <p:cNvPicPr/>
          <p:nvPr/>
        </p:nvPicPr>
        <p:blipFill>
          <a:blip r:embed="rId7"/>
          <a:stretch/>
        </p:blipFill>
        <p:spPr>
          <a:xfrm>
            <a:off x="1633680" y="3029040"/>
            <a:ext cx="1706400" cy="229860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10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977760" y="7776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1" descr="bball.jpg"/>
          <p:cNvPicPr/>
          <p:nvPr/>
        </p:nvPicPr>
        <p:blipFill>
          <a:blip r:embed="rId8"/>
          <a:stretch/>
        </p:blipFill>
        <p:spPr>
          <a:xfrm>
            <a:off x="380880" y="208296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70" name="Rounded Rectangle 24"/>
          <p:cNvSpPr/>
          <p:nvPr/>
        </p:nvSpPr>
        <p:spPr>
          <a:xfrm rot="10800000">
            <a:off x="0" y="6553080"/>
            <a:ext cx="9144000" cy="15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3148 L 0.05538 -0.04514 C 0.06702 -0.0625 0.08438 -0.07199 0.10261 -0.07199 C 0.12327 -0.07199 0.13976 -0.0625 0.15139 -0.04514 L 0.20695 0.03148 E">
                                      <p:cBhvr>
                                        <p:cTn id="10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694 0.03148 L 0.26476 -0.03009 C 0.27726 -0.04398 0.29531 -0.05162 0.31458 -0.05162 C 0.33611 -0.05162 0.35365 -0.04398 0.36615 -0.03009 L 0.425 0.03148 E">
                                      <p:cBhvr>
                                        <p:cTn id="14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 0.03149 L 0.47361 -0.03819 C 0.48385 -0.05416 0.49913 -0.06273 0.5151 -0.06273 C 0.53333 -0.06273 0.54774 -0.05416 0.55799 -0.03819 L 0.60694 0.03149 E">
                                      <p:cBhvr>
                                        <p:cTn id="18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694 0.03148 L 0.66476 -0.0382 C 0.67708 -0.05417 0.69531 -0.06273 0.71441 -0.06273 C 0.73628 -0.06273 0.75382 -0.05417 0.76597 -0.0382 L 0.825 0.03148 E">
                                      <p:cBhvr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8" descr="bbal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bball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53080" y="990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2"/>
          <p:cNvSpPr/>
          <p:nvPr/>
        </p:nvSpPr>
        <p:spPr>
          <a:xfrm>
            <a:off x="977760" y="9036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5"/>
          <p:cNvSpPr/>
          <p:nvPr/>
        </p:nvSpPr>
        <p:spPr>
          <a:xfrm>
            <a:off x="216000" y="1143000"/>
            <a:ext cx="568008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 the NBA continues to expand its business overseas, team tours showcasing the league’s talent to the world are becoming more prominent and impor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17"/>
          <p:cNvSpPr/>
          <p:nvPr/>
        </p:nvSpPr>
        <p:spPr>
          <a:xfrm>
            <a:off x="3341520" y="3541680"/>
            <a:ext cx="5454720" cy="270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NBA has commissioned four smart, good-looking young men from NYU Stern School of Business to figure out how to minimize flight costs when eight pre-selected teams play a European t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2"/>
          <p:cNvSpPr/>
          <p:nvPr/>
        </p:nvSpPr>
        <p:spPr>
          <a:xfrm>
            <a:off x="965160" y="6336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0"/>
          <p:cNvGrpSpPr/>
          <p:nvPr/>
        </p:nvGrpSpPr>
        <p:grpSpPr>
          <a:xfrm>
            <a:off x="914400" y="1238400"/>
            <a:ext cx="7316640" cy="4705200"/>
            <a:chOff x="914400" y="1238400"/>
            <a:chExt cx="7316640" cy="4705200"/>
          </a:xfrm>
        </p:grpSpPr>
        <p:pic>
          <p:nvPicPr>
            <p:cNvPr id="80" name="Picture 18" descr="usa_color"/>
            <p:cNvPicPr/>
            <p:nvPr/>
          </p:nvPicPr>
          <p:blipFill>
            <a:blip r:embed="rId1"/>
            <a:stretch/>
          </p:blipFill>
          <p:spPr>
            <a:xfrm>
              <a:off x="960480" y="1238400"/>
              <a:ext cx="7089840" cy="46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19"/>
            <p:cNvSpPr/>
            <p:nvPr/>
          </p:nvSpPr>
          <p:spPr>
            <a:xfrm>
              <a:off x="4781520" y="5654880"/>
              <a:ext cx="10954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1649520" y="5649840"/>
              <a:ext cx="1841400" cy="2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21" descr="knicks_accountmanager_hdr"/>
            <p:cNvPicPr/>
            <p:nvPr/>
          </p:nvPicPr>
          <p:blipFill>
            <a:blip r:embed="rId2"/>
            <a:srcRect l="18238" t="24220" r="18120" b="0"/>
            <a:stretch/>
          </p:blipFill>
          <p:spPr>
            <a:xfrm>
              <a:off x="7261200" y="2664000"/>
              <a:ext cx="96984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22" descr="chicago%2520bulls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118120" y="2833920"/>
              <a:ext cx="73980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3" descr="lakers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932040" y="3284640"/>
              <a:ext cx="1019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24" descr="945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559560" y="4872240"/>
              <a:ext cx="75240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25" descr="Golden_State_Warriors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914400" y="2254320"/>
              <a:ext cx="84924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6" descr="Dallas%2520Mavericks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226040" y="4568760"/>
              <a:ext cx="75708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7" descr="san_antonio_spurs300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3232080" y="4381560"/>
              <a:ext cx="100512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8" descr="Detroit_Pistons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5587920" y="1986120"/>
              <a:ext cx="817560" cy="81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42"/>
          <p:cNvGrpSpPr/>
          <p:nvPr/>
        </p:nvGrpSpPr>
        <p:grpSpPr>
          <a:xfrm>
            <a:off x="3581280" y="3040200"/>
            <a:ext cx="5410440" cy="3395520"/>
            <a:chOff x="3581280" y="3040200"/>
            <a:chExt cx="5410440" cy="3395520"/>
          </a:xfrm>
        </p:grpSpPr>
        <p:pic>
          <p:nvPicPr>
            <p:cNvPr id="92" name="Picture 32" descr="Political map of Europe"/>
            <p:cNvPicPr/>
            <p:nvPr/>
          </p:nvPicPr>
          <p:blipFill>
            <a:blip r:embed="rId17"/>
            <a:srcRect l="12420" t="54184" r="32003" b="16854"/>
            <a:stretch/>
          </p:blipFill>
          <p:spPr>
            <a:xfrm>
              <a:off x="3733920" y="3040200"/>
              <a:ext cx="5257800" cy="33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Oval 36"/>
            <p:cNvSpPr/>
            <p:nvPr/>
          </p:nvSpPr>
          <p:spPr>
            <a:xfrm>
              <a:off x="5486400" y="3505320"/>
              <a:ext cx="990720" cy="609480"/>
            </a:xfrm>
            <a:prstGeom prst="ellipse">
              <a:avLst/>
            </a:prstGeom>
            <a:noFill/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37"/>
            <p:cNvSpPr/>
            <p:nvPr/>
          </p:nvSpPr>
          <p:spPr>
            <a:xfrm>
              <a:off x="7772400" y="3124080"/>
              <a:ext cx="990720" cy="609840"/>
            </a:xfrm>
            <a:prstGeom prst="ellipse">
              <a:avLst/>
            </a:prstGeom>
            <a:noFill/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8"/>
            <p:cNvSpPr/>
            <p:nvPr/>
          </p:nvSpPr>
          <p:spPr>
            <a:xfrm>
              <a:off x="3581280" y="5791320"/>
              <a:ext cx="990720" cy="609480"/>
            </a:xfrm>
            <a:prstGeom prst="ellipse">
              <a:avLst/>
            </a:prstGeom>
            <a:noFill/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9"/>
            <p:cNvSpPr/>
            <p:nvPr/>
          </p:nvSpPr>
          <p:spPr>
            <a:xfrm>
              <a:off x="7467480" y="5638680"/>
              <a:ext cx="990720" cy="609840"/>
            </a:xfrm>
            <a:prstGeom prst="ellipse">
              <a:avLst/>
            </a:prstGeom>
            <a:noFill/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43"/>
          <p:cNvSpPr/>
          <p:nvPr/>
        </p:nvSpPr>
        <p:spPr>
          <a:xfrm>
            <a:off x="4921200" y="1612800"/>
            <a:ext cx="36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alibri"/>
              </a:rPr>
              <a:t>Which teams go where for the first ga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4"/>
          <p:cNvSpPr/>
          <p:nvPr/>
        </p:nvSpPr>
        <p:spPr>
          <a:xfrm>
            <a:off x="325440" y="4560840"/>
            <a:ext cx="323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Calibri"/>
              </a:rPr>
              <a:t>Then once those pairings are determined, what is the optimal inter-Europe route for each matchup to minimize flight cost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26667 -0.17917 E">
                                      <p:cBhvr>
                                        <p:cTn id="4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8" descr="bbal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3581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774720" y="4610160"/>
            <a:ext cx="7238880" cy="146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0" descr="bball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53080" y="990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798480" y="2500200"/>
            <a:ext cx="7264440" cy="194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806400" y="1236600"/>
            <a:ext cx="7237440" cy="1046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2"/>
          <p:cNvSpPr/>
          <p:nvPr/>
        </p:nvSpPr>
        <p:spPr>
          <a:xfrm>
            <a:off x="977760" y="6336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758880" y="1268280"/>
            <a:ext cx="728964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tain flight costs for all trans-Atlantic and city-to-city ro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termine first-week matchups and city assignments based on minimized trans-Atlantic fligh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lculate optimal cost-minimizing routes for each matchup throughou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965160" y="6336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4"/>
          <p:cNvSpPr/>
          <p:nvPr/>
        </p:nvSpPr>
        <p:spPr>
          <a:xfrm flipH="1">
            <a:off x="2911320" y="3043080"/>
            <a:ext cx="38592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45"/>
          <p:cNvSpPr/>
          <p:nvPr/>
        </p:nvSpPr>
        <p:spPr>
          <a:xfrm>
            <a:off x="2682720" y="4102200"/>
            <a:ext cx="2048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46"/>
          <p:cNvSpPr/>
          <p:nvPr/>
        </p:nvSpPr>
        <p:spPr>
          <a:xfrm flipH="1" flipV="1">
            <a:off x="3404880" y="5835600"/>
            <a:ext cx="2286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3240" r="0" b="21509"/>
          <a:stretch/>
        </p:blipFill>
        <p:spPr>
          <a:xfrm>
            <a:off x="114480" y="1487520"/>
            <a:ext cx="89787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977760" y="7632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6360" y="1351080"/>
            <a:ext cx="86043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2"/>
          <p:cNvSpPr/>
          <p:nvPr/>
        </p:nvSpPr>
        <p:spPr>
          <a:xfrm>
            <a:off x="977760" y="7632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4320" y="1085760"/>
            <a:ext cx="5162400" cy="5369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68840" y="2117880"/>
            <a:ext cx="334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ks 2-4 turn into an intra-European circuit, as teams move iteratively around the continent based on their original Wk 1 match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8840" y="5622840"/>
            <a:ext cx="33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k 4 marks the completion of the circ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8" descr="Political map of Europe"/>
          <p:cNvPicPr/>
          <p:nvPr/>
        </p:nvPicPr>
        <p:blipFill>
          <a:blip r:embed="rId1"/>
          <a:srcRect l="12420" t="54184" r="32003" b="16854"/>
          <a:stretch/>
        </p:blipFill>
        <p:spPr>
          <a:xfrm>
            <a:off x="1136520" y="1976400"/>
            <a:ext cx="6873840" cy="44388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16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2"/>
          <p:cNvSpPr/>
          <p:nvPr/>
        </p:nvSpPr>
        <p:spPr>
          <a:xfrm>
            <a:off x="977760" y="7632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3" descr="Golden_State_Warrio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7320" y="1008000"/>
            <a:ext cx="849240" cy="825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laker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84120" y="1001880"/>
            <a:ext cx="1019520" cy="838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san_antonio_spurs30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0800" y="1117440"/>
            <a:ext cx="1005120" cy="606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Detroit_Piston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911920" y="101124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chicago%2520bull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894200" y="1035000"/>
            <a:ext cx="73980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8" descr="knicks_accountmanager_hdr"/>
          <p:cNvPicPr/>
          <p:nvPr/>
        </p:nvPicPr>
        <p:blipFill>
          <a:blip r:embed="rId12"/>
          <a:srcRect l="18238" t="24220" r="18120" b="0"/>
          <a:stretch/>
        </p:blipFill>
        <p:spPr>
          <a:xfrm>
            <a:off x="8034480" y="1006560"/>
            <a:ext cx="969840" cy="83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9" descr="Dallas%2520Maverick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30760" y="1023840"/>
            <a:ext cx="757080" cy="795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0" descr="945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85000" y="892080"/>
            <a:ext cx="75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0.0434 0.60879 E">
                                      <p:cBhvr>
                                        <p:cTn id="8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-0.00417 0.59328 E">
                                      <p:cBhvr>
                                        <p:cTn id="8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0024 L 0.03351 0.29282 E">
                                      <p:cBhvr>
                                        <p:cTn id="8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45122 0.29282 E">
                                      <p:cBhvr>
                                        <p:cTn id="8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07407E-006 L 0.20278 0.57361 E">
                                      <p:cBhvr>
                                        <p:cTn id="9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0.06701 0.57547 E">
                                      <p:cBhvr>
                                        <p:cTn id="9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1408 0.23865 E">
                                      <p:cBhvr>
                                        <p:cTn id="9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8.51852E-006 L 0.01579 0.22824 E">
                                      <p:cBhvr>
                                        <p:cTn id="9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5:22:09Z</dcterms:created>
  <dc:creator>Sekou White</dc:creator>
  <dc:description/>
  <dc:language>en-US</dc:language>
  <cp:lastModifiedBy>Stephen Armbruster</cp:lastModifiedBy>
  <dcterms:modified xsi:type="dcterms:W3CDTF">2007-04-30T01:41:16Z</dcterms:modified>
  <cp:revision>36</cp:revision>
  <dc:subject/>
  <dc:title>Slide 1</dc:title>
</cp:coreProperties>
</file>